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1.wmf" ContentType="image/x-wmf"/>
  <Override PartName="/ppt/media/image6.wmf" ContentType="image/x-wmf"/>
  <Override PartName="/ppt/media/image13.wmf" ContentType="image/x-wmf"/>
  <Override PartName="/ppt/media/image8.wmf" ContentType="image/x-wmf"/>
  <Override PartName="/ppt/media/image5.gif" ContentType="image/gif"/>
  <Override PartName="/ppt/media/image16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4.wmf" ContentType="image/x-wmf"/>
  <Override PartName="/ppt/media/image2.wmf" ContentType="image/x-wmf"/>
  <Override PartName="/ppt/media/image1.jpeg" ContentType="image/jpeg"/>
  <Override PartName="/ppt/media/image15.wmf" ContentType="image/x-wmf"/>
  <Override PartName="/ppt/media/image4.gif" ContentType="image/gi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366840"/>
            <a:ext cx="779292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366840"/>
            <a:ext cx="779292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Nov. 3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76360" y="624348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Motorola Labs, UIUC, UC Davis                                       </a:t>
            </a:r>
            <a:fld id="{C11765CB-E8BE-44B3-8D33-8FE0C181A8BA}" type="slidenum">
              <a:rPr b="0" lang="en-US" sz="1400" spc="-1" strike="noStrike">
                <a:solidFill>
                  <a:srgbClr val="a50021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/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1752480"/>
            <a:ext cx="9009000" cy="1052640"/>
            <a:chOff x="0" y="17524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1860480"/>
              <a:ext cx="711360" cy="474840"/>
              <a:chOff x="290520" y="18604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18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18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282760"/>
              <a:ext cx="737640" cy="474840"/>
              <a:chOff x="414360" y="22827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2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2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2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17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25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8.wmf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wmf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wmf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50021"/>
                </a:solidFill>
                <a:latin typeface="Tahoma"/>
              </a:rPr>
              <a:t>Melete: Supporting Concurrent Applications in Wireless Sensor Networks</a:t>
            </a:r>
            <a:endParaRPr b="0" lang="en-US" sz="3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ng Yu, Loren J. Ritt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ervasive Platform and Architecture Lab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pplication Research Cen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otorola Lab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tika Bhanda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University of Illinois at Urbana-Champaig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son B. LeBr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University of California, Dav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978280" y="2743200"/>
            <a:ext cx="272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M Sen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ember 3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2743200" y="5105520"/>
            <a:ext cx="41148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43200" y="5638680"/>
            <a:ext cx="41148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43200" y="2743200"/>
            <a:ext cx="41148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06560" y="3733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1760" y="2819520"/>
            <a:ext cx="22100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65600" y="3886200"/>
            <a:ext cx="14475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05520" y="19810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743200" y="1523520"/>
            <a:ext cx="685800" cy="1143000"/>
            <a:chOff x="2743200" y="1523520"/>
            <a:chExt cx="685800" cy="1143000"/>
          </a:xfrm>
        </p:grpSpPr>
        <p:sp>
          <p:nvSpPr>
            <p:cNvPr id="467" name=""/>
            <p:cNvSpPr/>
            <p:nvPr/>
          </p:nvSpPr>
          <p:spPr>
            <a:xfrm rot="16200000">
              <a:off x="251460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4940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505320" y="1523520"/>
            <a:ext cx="685800" cy="1143000"/>
            <a:chOff x="3505320" y="1523520"/>
            <a:chExt cx="685800" cy="1143000"/>
          </a:xfrm>
        </p:grpSpPr>
        <p:sp>
          <p:nvSpPr>
            <p:cNvPr id="470" name=""/>
            <p:cNvSpPr/>
            <p:nvPr/>
          </p:nvSpPr>
          <p:spPr>
            <a:xfrm rot="16200000">
              <a:off x="327672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1152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267080" y="1523520"/>
            <a:ext cx="685800" cy="1143000"/>
            <a:chOff x="4267080" y="1523520"/>
            <a:chExt cx="685800" cy="1143000"/>
          </a:xfrm>
        </p:grpSpPr>
        <p:sp>
          <p:nvSpPr>
            <p:cNvPr id="473" name=""/>
            <p:cNvSpPr/>
            <p:nvPr/>
          </p:nvSpPr>
          <p:spPr>
            <a:xfrm rot="16200000">
              <a:off x="403848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7328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943600" y="1523520"/>
            <a:ext cx="685800" cy="1143000"/>
            <a:chOff x="5943600" y="1523520"/>
            <a:chExt cx="685800" cy="1143000"/>
          </a:xfrm>
        </p:grpSpPr>
        <p:sp>
          <p:nvSpPr>
            <p:cNvPr id="476" name=""/>
            <p:cNvSpPr/>
            <p:nvPr/>
          </p:nvSpPr>
          <p:spPr>
            <a:xfrm rot="16200000">
              <a:off x="571500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4980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295280" y="149220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965320" y="434340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03760" y="434340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435480" y="46483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844360" y="3886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81360" y="4572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41760" y="3886200"/>
            <a:ext cx="2210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38840" y="38545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n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03880" y="45720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10280" y="457200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86400" y="4114800"/>
            <a:ext cx="1066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65600" y="2819520"/>
            <a:ext cx="14475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21320" y="27907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de distrib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438280" y="2819520"/>
            <a:ext cx="152640" cy="2209680"/>
          </a:xfrm>
          <a:custGeom>
            <a:avLst/>
            <a:gdLst>
              <a:gd name="textAreaLeft" fmla="*/ 97560 w 152640"/>
              <a:gd name="textAreaRight" fmla="*/ 153000 w 1526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94200" y="31240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942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03680" y="31240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0368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940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75080" y="3232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22520" y="3316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474720" y="3276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085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458880" y="3625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90400" y="2819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18080" y="33526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08800" y="3352680"/>
            <a:ext cx="1066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18080" y="28954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65160" y="2538360"/>
            <a:ext cx="8972640" cy="2995200"/>
            <a:chOff x="65160" y="2538360"/>
            <a:chExt cx="8972640" cy="2995200"/>
          </a:xfrm>
        </p:grpSpPr>
        <p:sp>
          <p:nvSpPr>
            <p:cNvPr id="507" name=""/>
            <p:cNvSpPr/>
            <p:nvPr/>
          </p:nvSpPr>
          <p:spPr>
            <a:xfrm>
              <a:off x="2362320" y="28195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160" y="2538360"/>
              <a:ext cx="27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group-different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2362320" y="426672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9520" y="495288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separated app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de sto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5530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34320" y="3429000"/>
              <a:ext cx="2103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separated app. execution spa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6553080" y="312372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914400" y="1758960"/>
            <a:ext cx="2733480" cy="747360"/>
            <a:chOff x="914400" y="1758960"/>
            <a:chExt cx="2733480" cy="747360"/>
          </a:xfrm>
        </p:grpSpPr>
        <p:pic>
          <p:nvPicPr>
            <p:cNvPr id="515" name="" descr=""/>
            <p:cNvPicPr/>
            <p:nvPr/>
          </p:nvPicPr>
          <p:blipFill>
            <a:blip r:embed="rId1"/>
            <a:stretch/>
          </p:blipFill>
          <p:spPr>
            <a:xfrm>
              <a:off x="991800" y="184824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2"/>
            <a:stretch/>
          </p:blipFill>
          <p:spPr>
            <a:xfrm>
              <a:off x="3257280" y="220212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3"/>
            <a:stretch/>
          </p:blipFill>
          <p:spPr>
            <a:xfrm>
              <a:off x="1773720" y="184824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2320200" y="220212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5"/>
            <a:stretch/>
          </p:blipFill>
          <p:spPr>
            <a:xfrm>
              <a:off x="2788560" y="1758960"/>
              <a:ext cx="39096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358640" y="2025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64320" y="1935720"/>
              <a:ext cx="6238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579400" y="1987560"/>
              <a:ext cx="23328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79520" y="2025000"/>
              <a:ext cx="23508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64320" y="2115000"/>
              <a:ext cx="2332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14400" y="1758960"/>
              <a:ext cx="533160" cy="53244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-Differentiated Code Dissemin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80720" y="4441320"/>
            <a:ext cx="719604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ation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zy forwarding: reduces false-positive forwar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essive flooding: limits flooded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ing: reduces forwarding eff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241880" y="1346040"/>
          <a:ext cx="4190760" cy="274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41880" y="1346040"/>
                    <a:ext cx="419076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1727280" y="1752480"/>
            <a:ext cx="492120" cy="46224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965160" y="3154320"/>
            <a:ext cx="2733480" cy="747360"/>
            <a:chOff x="965160" y="3154320"/>
            <a:chExt cx="2733480" cy="747360"/>
          </a:xfrm>
        </p:grpSpPr>
        <p:pic>
          <p:nvPicPr>
            <p:cNvPr id="532" name="" descr=""/>
            <p:cNvPicPr/>
            <p:nvPr/>
          </p:nvPicPr>
          <p:blipFill>
            <a:blip r:embed="rId8"/>
            <a:stretch/>
          </p:blipFill>
          <p:spPr>
            <a:xfrm>
              <a:off x="1042560" y="324360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9"/>
            <a:stretch/>
          </p:blipFill>
          <p:spPr>
            <a:xfrm>
              <a:off x="3308040" y="359748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0"/>
            <a:stretch/>
          </p:blipFill>
          <p:spPr>
            <a:xfrm>
              <a:off x="1824480" y="324360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1"/>
            <a:stretch/>
          </p:blipFill>
          <p:spPr>
            <a:xfrm>
              <a:off x="2370960" y="359748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2"/>
            <a:stretch/>
          </p:blipFill>
          <p:spPr>
            <a:xfrm>
              <a:off x="2839320" y="3154320"/>
              <a:ext cx="39096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1409400" y="3420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2215080" y="3331080"/>
              <a:ext cx="6238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630160" y="3382920"/>
              <a:ext cx="23328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30280" y="3420360"/>
              <a:ext cx="23508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15080" y="3510360"/>
              <a:ext cx="2332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65160" y="3154320"/>
              <a:ext cx="533160" cy="53244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251160" y="3505320"/>
            <a:ext cx="533520" cy="53316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3276360" y="3354480"/>
            <a:ext cx="266760" cy="226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234880" y="3276720"/>
            <a:ext cx="43164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679840" y="3463920"/>
            <a:ext cx="177840" cy="2271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396800" y="3276720"/>
            <a:ext cx="3553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422000" y="1752480"/>
            <a:ext cx="1244880" cy="489240"/>
            <a:chOff x="1422000" y="1752480"/>
            <a:chExt cx="1244880" cy="489240"/>
          </a:xfrm>
        </p:grpSpPr>
        <p:sp>
          <p:nvSpPr>
            <p:cNvPr id="549" name=""/>
            <p:cNvSpPr/>
            <p:nvPr/>
          </p:nvSpPr>
          <p:spPr>
            <a:xfrm flipH="1">
              <a:off x="1422000" y="1752480"/>
              <a:ext cx="328680" cy="18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362320" y="1828800"/>
              <a:ext cx="304560" cy="763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89080" y="2165400"/>
              <a:ext cx="228600" cy="763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8154720" y="3657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231400" y="18288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36640" y="4038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244120" y="1447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1640" y="1828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81800" y="1447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7600" y="3276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77240" y="23623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815120" y="13716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5800" y="1523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30240" y="1371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2360" y="1523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1447920" y="2133720"/>
            <a:ext cx="328320" cy="280440"/>
            <a:chOff x="1447920" y="2133720"/>
            <a:chExt cx="328320" cy="280440"/>
          </a:xfrm>
        </p:grpSpPr>
        <p:sp>
          <p:nvSpPr>
            <p:cNvPr id="565" name=""/>
            <p:cNvSpPr/>
            <p:nvPr/>
          </p:nvSpPr>
          <p:spPr>
            <a:xfrm>
              <a:off x="1447920" y="2133720"/>
              <a:ext cx="328320" cy="144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6200000">
              <a:off x="1485720" y="2223360"/>
              <a:ext cx="228600" cy="15264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2805840" y="28195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196000" y="3886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15120" y="28954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95800" y="2971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90640" y="328284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21320" y="28195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0600" y="2895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211480" y="38862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0280" y="2970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397160" y="3429000"/>
            <a:ext cx="1993680" cy="380520"/>
            <a:chOff x="1397160" y="3429000"/>
            <a:chExt cx="1993680" cy="380520"/>
          </a:xfrm>
        </p:grpSpPr>
        <p:sp>
          <p:nvSpPr>
            <p:cNvPr id="577" name=""/>
            <p:cNvSpPr/>
            <p:nvPr/>
          </p:nvSpPr>
          <p:spPr>
            <a:xfrm>
              <a:off x="1397160" y="3505320"/>
              <a:ext cx="355320" cy="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2286000" y="3429000"/>
              <a:ext cx="457200" cy="38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24080" y="3429000"/>
              <a:ext cx="266760" cy="227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6200000">
              <a:off x="1485720" y="3618720"/>
              <a:ext cx="228600" cy="15264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562720" y="1143000"/>
            <a:ext cx="1752480" cy="76212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257800" y="2057400"/>
            <a:ext cx="2590920" cy="1905120"/>
            <a:chOff x="5257800" y="2057400"/>
            <a:chExt cx="2590920" cy="1905120"/>
          </a:xfrm>
        </p:grpSpPr>
        <p:sp>
          <p:nvSpPr>
            <p:cNvPr id="583" name=""/>
            <p:cNvSpPr/>
            <p:nvPr/>
          </p:nvSpPr>
          <p:spPr>
            <a:xfrm>
              <a:off x="5257800" y="2057400"/>
              <a:ext cx="259092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5310720" y="2257560"/>
              <a:ext cx="2397600" cy="1641600"/>
              <a:chOff x="5310720" y="2257560"/>
              <a:chExt cx="2397600" cy="1641600"/>
            </a:xfrm>
          </p:grpSpPr>
          <p:sp>
            <p:nvSpPr>
              <p:cNvPr id="585" name=""/>
              <p:cNvSpPr/>
              <p:nvPr/>
            </p:nvSpPr>
            <p:spPr>
              <a:xfrm>
                <a:off x="5736600" y="3565440"/>
                <a:ext cx="19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5805000" y="2257560"/>
                <a:ext cx="0" cy="136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05600" y="3530880"/>
                <a:ext cx="160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# of reques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10720" y="2876760"/>
                <a:ext cx="365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05000" y="2257560"/>
                <a:ext cx="1636560" cy="1307880"/>
              </a:xfrm>
              <a:custGeom>
                <a:avLst/>
                <a:gdLst/>
                <a:ahLst/>
                <a:rect l="l" t="t" r="r" b="b"/>
                <a:pathLst>
                  <a:path w="1152" h="1056">
                    <a:moveTo>
                      <a:pt x="0" y="1056"/>
                    </a:moveTo>
                    <a:cubicBezTo>
                      <a:pt x="28" y="820"/>
                      <a:pt x="56" y="584"/>
                      <a:pt x="144" y="432"/>
                    </a:cubicBezTo>
                    <a:cubicBezTo>
                      <a:pt x="232" y="280"/>
                      <a:pt x="360" y="216"/>
                      <a:pt x="528" y="144"/>
                    </a:cubicBezTo>
                    <a:cubicBezTo>
                      <a:pt x="696" y="72"/>
                      <a:pt x="1048" y="24"/>
                      <a:pt x="1152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3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ive Flo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03120" cy="2350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2209680" y="256536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657360" y="2097000"/>
            <a:ext cx="380880" cy="38124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1905120" y="29718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1828800" y="2438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5"/>
          <a:stretch/>
        </p:blipFill>
        <p:spPr>
          <a:xfrm>
            <a:off x="2590920" y="2666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6"/>
          <a:stretch/>
        </p:blipFill>
        <p:spPr>
          <a:xfrm>
            <a:off x="2438280" y="3124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7"/>
          <a:stretch/>
        </p:blipFill>
        <p:spPr>
          <a:xfrm>
            <a:off x="3276720" y="12193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8"/>
          <a:stretch/>
        </p:blipFill>
        <p:spPr>
          <a:xfrm>
            <a:off x="3352680" y="2438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9"/>
          <a:stretch/>
        </p:blipFill>
        <p:spPr>
          <a:xfrm>
            <a:off x="3124080" y="28195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3124080" y="34290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1"/>
          <a:stretch/>
        </p:blipFill>
        <p:spPr>
          <a:xfrm>
            <a:off x="2362320" y="3657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12"/>
          <a:stretch/>
        </p:blipFill>
        <p:spPr>
          <a:xfrm>
            <a:off x="1600200" y="33526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13"/>
          <a:stretch/>
        </p:blipFill>
        <p:spPr>
          <a:xfrm>
            <a:off x="1676520" y="2057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14"/>
          <a:stretch/>
        </p:blipFill>
        <p:spPr>
          <a:xfrm>
            <a:off x="1447920" y="1523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15"/>
          <a:stretch/>
        </p:blipFill>
        <p:spPr>
          <a:xfrm>
            <a:off x="1828800" y="16765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16"/>
          <a:stretch/>
        </p:blipFill>
        <p:spPr>
          <a:xfrm>
            <a:off x="2438280" y="1295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17"/>
          <a:stretch/>
        </p:blipFill>
        <p:spPr>
          <a:xfrm>
            <a:off x="2590920" y="2057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18"/>
          <a:stretch/>
        </p:blipFill>
        <p:spPr>
          <a:xfrm>
            <a:off x="2743200" y="17524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19"/>
          <a:stretch/>
        </p:blipFill>
        <p:spPr>
          <a:xfrm>
            <a:off x="2819520" y="317484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0"/>
          <a:stretch/>
        </p:blipFill>
        <p:spPr>
          <a:xfrm>
            <a:off x="2971800" y="23623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1"/>
          <a:stretch/>
        </p:blipFill>
        <p:spPr>
          <a:xfrm>
            <a:off x="3581280" y="3657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2"/>
          <a:stretch/>
        </p:blipFill>
        <p:spPr>
          <a:xfrm>
            <a:off x="1143000" y="19051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3"/>
          <a:stretch/>
        </p:blipFill>
        <p:spPr>
          <a:xfrm>
            <a:off x="1371600" y="27432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4"/>
          <a:stretch/>
        </p:blipFill>
        <p:spPr>
          <a:xfrm>
            <a:off x="1143000" y="3200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5"/>
          <a:stretch/>
        </p:blipFill>
        <p:spPr>
          <a:xfrm>
            <a:off x="2819520" y="317484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6"/>
          <a:stretch/>
        </p:blipFill>
        <p:spPr>
          <a:xfrm>
            <a:off x="1600200" y="373392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2152800" y="2505240"/>
            <a:ext cx="304560" cy="30456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7"/>
          <a:stretch/>
        </p:blipFill>
        <p:spPr>
          <a:xfrm>
            <a:off x="3809880" y="3124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8"/>
          <a:stretch/>
        </p:blipFill>
        <p:spPr>
          <a:xfrm>
            <a:off x="3124080" y="37339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29"/>
          <a:stretch/>
        </p:blipFill>
        <p:spPr>
          <a:xfrm>
            <a:off x="914400" y="34290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0"/>
          <a:stretch/>
        </p:blipFill>
        <p:spPr>
          <a:xfrm>
            <a:off x="3124080" y="17524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1"/>
          <a:stretch/>
        </p:blipFill>
        <p:spPr>
          <a:xfrm>
            <a:off x="3505320" y="1981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2"/>
          <a:stretch/>
        </p:blipFill>
        <p:spPr>
          <a:xfrm>
            <a:off x="3886200" y="2666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33"/>
          <a:stretch/>
        </p:blipFill>
        <p:spPr>
          <a:xfrm>
            <a:off x="533520" y="2514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34"/>
          <a:stretch/>
        </p:blipFill>
        <p:spPr>
          <a:xfrm>
            <a:off x="762120" y="220968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 flipH="1">
            <a:off x="2057040" y="2590920"/>
            <a:ext cx="152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2057040" y="2743200"/>
            <a:ext cx="152280" cy="228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666880"/>
            <a:ext cx="152640" cy="763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2819520"/>
            <a:ext cx="0" cy="3045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362320" y="2209320"/>
            <a:ext cx="30456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666880" y="327672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335268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971800" y="297144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2209680"/>
            <a:ext cx="15228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2438280" y="3276720"/>
            <a:ext cx="763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752120" y="3124080"/>
            <a:ext cx="22860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1752480" y="228564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743200" y="190476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971800" y="18288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2590560" y="1447920"/>
            <a:ext cx="15228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00400" y="25146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523520" y="2514600"/>
            <a:ext cx="3049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828800" y="1828440"/>
            <a:ext cx="763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1371240" y="3276360"/>
            <a:ext cx="30492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52480" y="353376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990360" y="335268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200400" y="3581280"/>
            <a:ext cx="0" cy="1526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352680" y="3581280"/>
            <a:ext cx="228600" cy="763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352680" y="1905120"/>
            <a:ext cx="15264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276720" y="137160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81280" y="259092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819520"/>
            <a:ext cx="0" cy="3808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1294920" y="2057400"/>
            <a:ext cx="38124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1676160" y="160020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rages periodic broadcast and lazy forwar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central contro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nomous expan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to 3-fold traffic reduction compared to expanding-ring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ceful time-traffic tradeoff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O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=O(1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agation step widt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1295280" y="2133720"/>
            <a:ext cx="3812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1142640" y="15998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837720" y="203364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776240" y="1804680"/>
            <a:ext cx="763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1652400" y="1668240"/>
            <a:ext cx="15228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36720" y="2262240"/>
            <a:ext cx="763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539360" y="2583000"/>
            <a:ext cx="3049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065320" y="2530440"/>
            <a:ext cx="15228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362320" y="2285640"/>
            <a:ext cx="304560" cy="3049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2089080" y="2795760"/>
            <a:ext cx="15264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752480" y="3124080"/>
            <a:ext cx="15264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38280" y="2590920"/>
            <a:ext cx="1526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66880" y="2819520"/>
            <a:ext cx="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2133720"/>
            <a:ext cx="22860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795760" y="1904760"/>
            <a:ext cx="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35"/>
          <a:stretch/>
        </p:blipFill>
        <p:spPr>
          <a:xfrm>
            <a:off x="457200" y="167652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H="1" flipV="1">
            <a:off x="1371240" y="3200400"/>
            <a:ext cx="304920" cy="763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28800" y="3505320"/>
            <a:ext cx="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66680" y="3376440"/>
            <a:ext cx="152640" cy="763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485800" y="3305160"/>
            <a:ext cx="7596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606760" y="3328920"/>
            <a:ext cx="22860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2666880" y="1447920"/>
            <a:ext cx="15264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948040" y="1905120"/>
            <a:ext cx="22860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200400" y="1371600"/>
            <a:ext cx="7632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76440" y="1844640"/>
            <a:ext cx="15264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2438280"/>
            <a:ext cx="15228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251460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2819520"/>
            <a:ext cx="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024360" y="2987280"/>
            <a:ext cx="22860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011400" y="3384720"/>
            <a:ext cx="1526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352680" y="350532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24080" y="3581280"/>
            <a:ext cx="0" cy="15264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685800" y="3962520"/>
            <a:ext cx="7344360" cy="2423880"/>
            <a:chOff x="685800" y="3962520"/>
            <a:chExt cx="7344360" cy="2423880"/>
          </a:xfrm>
        </p:grpSpPr>
        <p:grpSp>
          <p:nvGrpSpPr>
            <p:cNvPr id="690" name=""/>
            <p:cNvGrpSpPr/>
            <p:nvPr/>
          </p:nvGrpSpPr>
          <p:grpSpPr>
            <a:xfrm>
              <a:off x="839520" y="3962520"/>
              <a:ext cx="7190640" cy="2423880"/>
              <a:chOff x="839520" y="3962520"/>
              <a:chExt cx="7190640" cy="2423880"/>
            </a:xfrm>
          </p:grpSpPr>
          <p:pic>
            <p:nvPicPr>
              <p:cNvPr id="691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839520" y="3962520"/>
                <a:ext cx="5486040" cy="24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2" name=""/>
              <p:cNvSpPr/>
              <p:nvPr/>
            </p:nvSpPr>
            <p:spPr>
              <a:xfrm>
                <a:off x="6308640" y="4852800"/>
                <a:ext cx="1721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: # of respond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 rot="10800000">
              <a:off x="685800" y="4210200"/>
              <a:ext cx="378360" cy="199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</a:rPr>
                <a:t># of forwarded packe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552600" y="1162080"/>
            <a:ext cx="3790800" cy="2800440"/>
            <a:chOff x="552600" y="1162080"/>
            <a:chExt cx="3790800" cy="2800440"/>
          </a:xfrm>
        </p:grpSpPr>
        <p:sp>
          <p:nvSpPr>
            <p:cNvPr id="695" name=""/>
            <p:cNvSpPr/>
            <p:nvPr/>
          </p:nvSpPr>
          <p:spPr>
            <a:xfrm>
              <a:off x="2666880" y="2743200"/>
              <a:ext cx="1676520" cy="1219320"/>
            </a:xfrm>
            <a:custGeom>
              <a:avLst/>
              <a:gdLst/>
              <a:ahLst/>
              <a:rect l="l" t="t" r="r" b="b"/>
              <a:pathLst>
                <a:path w="1056" h="768">
                  <a:moveTo>
                    <a:pt x="0" y="768"/>
                  </a:moveTo>
                  <a:cubicBezTo>
                    <a:pt x="80" y="688"/>
                    <a:pt x="160" y="608"/>
                    <a:pt x="240" y="576"/>
                  </a:cubicBezTo>
                  <a:cubicBezTo>
                    <a:pt x="320" y="544"/>
                    <a:pt x="416" y="592"/>
                    <a:pt x="480" y="576"/>
                  </a:cubicBezTo>
                  <a:cubicBezTo>
                    <a:pt x="544" y="560"/>
                    <a:pt x="600" y="528"/>
                    <a:pt x="624" y="480"/>
                  </a:cubicBezTo>
                  <a:cubicBezTo>
                    <a:pt x="648" y="432"/>
                    <a:pt x="608" y="344"/>
                    <a:pt x="624" y="288"/>
                  </a:cubicBezTo>
                  <a:cubicBezTo>
                    <a:pt x="640" y="232"/>
                    <a:pt x="664" y="176"/>
                    <a:pt x="720" y="144"/>
                  </a:cubicBezTo>
                  <a:cubicBezTo>
                    <a:pt x="776" y="112"/>
                    <a:pt x="904" y="120"/>
                    <a:pt x="960" y="96"/>
                  </a:cubicBezTo>
                  <a:cubicBezTo>
                    <a:pt x="1016" y="72"/>
                    <a:pt x="1040" y="16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2600" y="1162080"/>
              <a:ext cx="819000" cy="1811160"/>
            </a:xfrm>
            <a:custGeom>
              <a:avLst/>
              <a:gdLst/>
              <a:ahLst/>
              <a:rect l="l" t="t" r="r" b="b"/>
              <a:pathLst>
                <a:path w="516" h="1141">
                  <a:moveTo>
                    <a:pt x="136" y="1141"/>
                  </a:moveTo>
                  <a:cubicBezTo>
                    <a:pt x="145" y="1100"/>
                    <a:pt x="207" y="965"/>
                    <a:pt x="185" y="894"/>
                  </a:cubicBezTo>
                  <a:cubicBezTo>
                    <a:pt x="163" y="823"/>
                    <a:pt x="4" y="805"/>
                    <a:pt x="2" y="716"/>
                  </a:cubicBezTo>
                  <a:cubicBezTo>
                    <a:pt x="0" y="627"/>
                    <a:pt x="134" y="471"/>
                    <a:pt x="174" y="361"/>
                  </a:cubicBezTo>
                  <a:cubicBezTo>
                    <a:pt x="214" y="251"/>
                    <a:pt x="187" y="108"/>
                    <a:pt x="244" y="54"/>
                  </a:cubicBezTo>
                  <a:cubicBezTo>
                    <a:pt x="301" y="0"/>
                    <a:pt x="459" y="40"/>
                    <a:pt x="516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1079640" y="1625760"/>
            <a:ext cx="2222280" cy="2044440"/>
          </a:xfrm>
          <a:custGeom>
            <a:avLst/>
            <a:gdLst/>
            <a:ahLst/>
            <a:rect l="l" t="t" r="r" b="b"/>
            <a:pathLst>
              <a:path w="1400" h="1288">
                <a:moveTo>
                  <a:pt x="40" y="752"/>
                </a:moveTo>
                <a:cubicBezTo>
                  <a:pt x="80" y="792"/>
                  <a:pt x="240" y="872"/>
                  <a:pt x="280" y="944"/>
                </a:cubicBezTo>
                <a:cubicBezTo>
                  <a:pt x="320" y="1016"/>
                  <a:pt x="232" y="1128"/>
                  <a:pt x="280" y="1184"/>
                </a:cubicBezTo>
                <a:cubicBezTo>
                  <a:pt x="328" y="1240"/>
                  <a:pt x="480" y="1288"/>
                  <a:pt x="568" y="1280"/>
                </a:cubicBezTo>
                <a:cubicBezTo>
                  <a:pt x="656" y="1272"/>
                  <a:pt x="736" y="1160"/>
                  <a:pt x="808" y="1136"/>
                </a:cubicBezTo>
                <a:cubicBezTo>
                  <a:pt x="880" y="1112"/>
                  <a:pt x="952" y="1176"/>
                  <a:pt x="1000" y="1136"/>
                </a:cubicBezTo>
                <a:cubicBezTo>
                  <a:pt x="1048" y="1096"/>
                  <a:pt x="1040" y="976"/>
                  <a:pt x="1096" y="896"/>
                </a:cubicBezTo>
                <a:cubicBezTo>
                  <a:pt x="1152" y="816"/>
                  <a:pt x="1288" y="736"/>
                  <a:pt x="1336" y="656"/>
                </a:cubicBezTo>
                <a:cubicBezTo>
                  <a:pt x="1384" y="576"/>
                  <a:pt x="1400" y="472"/>
                  <a:pt x="1384" y="416"/>
                </a:cubicBezTo>
                <a:cubicBezTo>
                  <a:pt x="1368" y="360"/>
                  <a:pt x="1264" y="360"/>
                  <a:pt x="1240" y="320"/>
                </a:cubicBezTo>
                <a:cubicBezTo>
                  <a:pt x="1216" y="280"/>
                  <a:pt x="1248" y="224"/>
                  <a:pt x="1240" y="176"/>
                </a:cubicBezTo>
                <a:cubicBezTo>
                  <a:pt x="1232" y="128"/>
                  <a:pt x="1240" y="56"/>
                  <a:pt x="1192" y="32"/>
                </a:cubicBezTo>
                <a:cubicBezTo>
                  <a:pt x="1144" y="8"/>
                  <a:pt x="1008" y="0"/>
                  <a:pt x="952" y="32"/>
                </a:cubicBezTo>
                <a:cubicBezTo>
                  <a:pt x="896" y="64"/>
                  <a:pt x="896" y="160"/>
                  <a:pt x="856" y="224"/>
                </a:cubicBezTo>
                <a:cubicBezTo>
                  <a:pt x="816" y="288"/>
                  <a:pt x="768" y="408"/>
                  <a:pt x="712" y="416"/>
                </a:cubicBezTo>
                <a:cubicBezTo>
                  <a:pt x="656" y="424"/>
                  <a:pt x="576" y="304"/>
                  <a:pt x="520" y="272"/>
                </a:cubicBezTo>
                <a:cubicBezTo>
                  <a:pt x="464" y="240"/>
                  <a:pt x="424" y="200"/>
                  <a:pt x="376" y="224"/>
                </a:cubicBezTo>
                <a:cubicBezTo>
                  <a:pt x="328" y="248"/>
                  <a:pt x="264" y="368"/>
                  <a:pt x="232" y="416"/>
                </a:cubicBezTo>
                <a:cubicBezTo>
                  <a:pt x="200" y="464"/>
                  <a:pt x="216" y="464"/>
                  <a:pt x="184" y="512"/>
                </a:cubicBezTo>
                <a:cubicBezTo>
                  <a:pt x="152" y="560"/>
                  <a:pt x="64" y="664"/>
                  <a:pt x="40" y="704"/>
                </a:cubicBezTo>
                <a:cubicBezTo>
                  <a:pt x="16" y="744"/>
                  <a:pt x="0" y="712"/>
                  <a:pt x="40" y="75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37"/>
          <a:stretch/>
        </p:blipFill>
        <p:spPr>
          <a:xfrm>
            <a:off x="4114800" y="3809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38"/>
          <a:stretch/>
        </p:blipFill>
        <p:spPr>
          <a:xfrm>
            <a:off x="4343400" y="325116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2130480" y="22096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75480" y="20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914400" y="205704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1203120" y="1531440"/>
            <a:ext cx="152280" cy="3049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09480" y="2362320"/>
            <a:ext cx="15264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609480" y="1905120"/>
            <a:ext cx="15264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8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0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69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1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3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5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7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9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1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3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5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"/>
                            </p:stCondLst>
                            <p:childTnLst>
                              <p:par>
                                <p:cTn id="466" nodeType="after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900"/>
                            </p:stCondLst>
                            <p:childTnLst>
                              <p:par>
                                <p:cTn id="473" nodeType="after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6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300"/>
                            </p:stCondLst>
                            <p:childTnLst>
                              <p:par>
                                <p:cTn id="493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200"/>
                            </p:stCondLst>
                            <p:childTnLst>
                              <p:par>
                                <p:cTn id="558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ndomized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acket to be cached per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groups, 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,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av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mbers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quests (all uniformly distribut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cheable pa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: total traffic to fulfill all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tion: # of caches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098960" y="4032360"/>
                <a:ext cx="2506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rad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380880" y="4495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lin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s the latest forwarded code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ics the middle point between linear and uniform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5029200" y="3689280"/>
            <a:ext cx="3435840" cy="959040"/>
            <a:chOff x="5029200" y="3689280"/>
            <a:chExt cx="3435840" cy="959040"/>
          </a:xfrm>
        </p:grpSpPr>
        <p:sp>
          <p:nvSpPr>
            <p:cNvPr id="711" name=""/>
            <p:cNvSpPr/>
            <p:nvPr/>
          </p:nvSpPr>
          <p:spPr>
            <a:xfrm>
              <a:off x="5029200" y="3886200"/>
              <a:ext cx="990720" cy="76212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5943600" y="3886200"/>
              <a:ext cx="380880" cy="15228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27360" y="3689280"/>
              <a:ext cx="2137680" cy="36828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ahoma"/>
                </a:rPr>
                <a:t>Square root poli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sefulness of Cach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2527200" y="1432080"/>
            <a:ext cx="6235920" cy="490032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3732840" y="1143000"/>
            <a:ext cx="2455920" cy="1523520"/>
            <a:chOff x="3732840" y="1143000"/>
            <a:chExt cx="2455920" cy="1523520"/>
          </a:xfrm>
        </p:grpSpPr>
        <p:sp>
          <p:nvSpPr>
            <p:cNvPr id="717" name=""/>
            <p:cNvSpPr/>
            <p:nvPr/>
          </p:nvSpPr>
          <p:spPr>
            <a:xfrm>
              <a:off x="3749760" y="1599840"/>
              <a:ext cx="304560" cy="10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054320" y="144756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32840" y="1143000"/>
              <a:ext cx="24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locking phenom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 feet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– 40 requests per group in 10 min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079800" y="359712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240600" y="359712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048120" y="61023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240600" y="61023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10800000">
            <a:off x="5695560" y="1454760"/>
            <a:ext cx="378360" cy="199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forwarded pa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662940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alability to Node Dens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5, 10, 15, 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eet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– 40 requests per group in 10 min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3049560" y="114624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3049560" y="289872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3049560" y="4651200"/>
            <a:ext cx="5484960" cy="16732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4876920" y="266544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76920" y="43815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76920" y="61149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0800000">
            <a:off x="2884320" y="2895480"/>
            <a:ext cx="576360" cy="150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forwarded pa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745160" y="3565440"/>
            <a:ext cx="1523880" cy="83844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1720800"/>
            <a:ext cx="1600200" cy="91440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772400" y="4419720"/>
            <a:ext cx="762120" cy="190476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oad Balanc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114800" cy="3259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4800600" y="1373040"/>
            <a:ext cx="4114800" cy="32594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616040" y="464832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130440" y="464832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05120" y="52574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SSIM-b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52578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fee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– 40 requests p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to Trick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486400" cy="167616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3201840" y="289548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3278160" y="4495680"/>
            <a:ext cx="5408640" cy="190512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228600" y="1523880"/>
            <a:ext cx="2895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enarios: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(10, 20, 40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 member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: all 400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: all 400 n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507240" y="3962520"/>
            <a:ext cx="2083680" cy="1892520"/>
            <a:chOff x="507240" y="3962520"/>
            <a:chExt cx="2083680" cy="1892520"/>
          </a:xfrm>
        </p:grpSpPr>
        <p:sp>
          <p:nvSpPr>
            <p:cNvPr id="752" name=""/>
            <p:cNvSpPr/>
            <p:nvPr/>
          </p:nvSpPr>
          <p:spPr>
            <a:xfrm>
              <a:off x="990720" y="3962520"/>
              <a:ext cx="1600200" cy="1524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90720" y="4724640"/>
              <a:ext cx="762120" cy="76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52840" y="3962520"/>
              <a:ext cx="838080" cy="7621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71960" y="4343760"/>
              <a:ext cx="761760" cy="7617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067040" y="50295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81440" y="40388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ahoma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24240" y="45723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14760" y="5410440"/>
              <a:ext cx="15228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7240" y="548676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ate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mpirical Study – Code updat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4724640" cy="25290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6375240" cy="248904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590920" y="1600200"/>
            <a:ext cx="380880" cy="30492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248520" y="1981080"/>
            <a:ext cx="38088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886200" y="3124080"/>
            <a:ext cx="38088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495680" y="1981080"/>
            <a:ext cx="38124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438280" y="14479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30960" y="114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6290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4876560" y="2209320"/>
            <a:ext cx="2819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4266720" y="3048120"/>
            <a:ext cx="3429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638120" y="28195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209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-4 h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ckets per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mpirical Study – Shadow Track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220968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73528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088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78612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31172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83876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6400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88960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94044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41520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1905120" y="30258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068840" y="30481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tebulb"/>
          <p:cNvSpPr/>
          <p:nvPr/>
        </p:nvSpPr>
        <p:spPr>
          <a:xfrm rot="10800000">
            <a:off x="4266720" y="1255680"/>
            <a:ext cx="38124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276720" y="2668680"/>
            <a:ext cx="990360" cy="74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2895480"/>
            <a:ext cx="1219320" cy="304920"/>
          </a:xfrm>
          <a:prstGeom prst="ellipse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19520" y="23623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269800" y="201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6576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6363000" cy="28828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 flipH="1">
            <a:off x="2971800" y="1560600"/>
            <a:ext cx="1295280" cy="144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191120" y="1712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467480" y="2940120"/>
            <a:ext cx="152640" cy="152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600200" y="1219320"/>
            <a:ext cx="5638320" cy="3047400"/>
            <a:chOff x="1600200" y="1219320"/>
            <a:chExt cx="5638320" cy="30474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022840" y="24037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3573720" y="160812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3926160" y="283788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5335560" y="218664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2586600" y="29829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3220920" y="23317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4278240" y="34891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8"/>
            <a:stretch/>
          </p:blipFill>
          <p:spPr>
            <a:xfrm>
              <a:off x="1952280" y="356148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9"/>
            <a:stretch/>
          </p:blipFill>
          <p:spPr>
            <a:xfrm>
              <a:off x="3009600" y="37785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0"/>
            <a:stretch/>
          </p:blipFill>
          <p:spPr>
            <a:xfrm>
              <a:off x="5265360" y="269316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1"/>
            <a:stretch/>
          </p:blipFill>
          <p:spPr>
            <a:xfrm>
              <a:off x="5758560" y="15357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2"/>
            <a:stretch/>
          </p:blipFill>
          <p:spPr>
            <a:xfrm>
              <a:off x="5899680" y="356148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3"/>
            <a:stretch/>
          </p:blipFill>
          <p:spPr>
            <a:xfrm>
              <a:off x="5476680" y="406800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4"/>
            <a:stretch/>
          </p:blipFill>
          <p:spPr>
            <a:xfrm>
              <a:off x="6957000" y="305496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5"/>
            <a:stretch/>
          </p:blipFill>
          <p:spPr>
            <a:xfrm>
              <a:off x="6604200" y="211464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093400" y="2593800"/>
              <a:ext cx="0" cy="9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05080" y="2593800"/>
              <a:ext cx="352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68840" y="3172320"/>
              <a:ext cx="21132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163960" y="3171960"/>
              <a:ext cx="49320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98280" y="2521080"/>
              <a:ext cx="49320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432600" y="1798200"/>
              <a:ext cx="21132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3160" y="2521440"/>
              <a:ext cx="49320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08040" y="3027960"/>
              <a:ext cx="14076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406120" y="2376720"/>
              <a:ext cx="7056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76680" y="1725480"/>
              <a:ext cx="35208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40440" y="1725840"/>
              <a:ext cx="63432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45680" y="2304360"/>
              <a:ext cx="281520" cy="72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6111360" y="3245040"/>
              <a:ext cx="91584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688360" y="3751560"/>
              <a:ext cx="28152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278240" y="2883240"/>
              <a:ext cx="986760" cy="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419720" y="2882880"/>
              <a:ext cx="915840" cy="5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60480" y="3606480"/>
              <a:ext cx="91620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6"/>
            <a:stretch/>
          </p:blipFill>
          <p:spPr>
            <a:xfrm>
              <a:off x="1600200" y="1219320"/>
              <a:ext cx="842760" cy="8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516400" y="1653120"/>
              <a:ext cx="1056960" cy="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63960" y="2087280"/>
              <a:ext cx="7056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00200" y="1447920"/>
            <a:ext cx="5714640" cy="2971440"/>
            <a:chOff x="1600200" y="1447920"/>
            <a:chExt cx="5714640" cy="2971440"/>
          </a:xfrm>
        </p:grpSpPr>
        <p:sp>
          <p:nvSpPr>
            <p:cNvPr id="136" name=""/>
            <p:cNvSpPr/>
            <p:nvPr/>
          </p:nvSpPr>
          <p:spPr>
            <a:xfrm>
              <a:off x="1600200" y="293364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293364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10440" y="2933640"/>
              <a:ext cx="190440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10440" y="1447920"/>
              <a:ext cx="190440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144792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00200" y="144792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828800" y="1447920"/>
            <a:ext cx="5105520" cy="2946240"/>
            <a:chOff x="1828800" y="1447920"/>
            <a:chExt cx="5105520" cy="2946240"/>
          </a:xfrm>
        </p:grpSpPr>
        <p:pic>
          <p:nvPicPr>
            <p:cNvPr id="143" name="" descr=""/>
            <p:cNvPicPr/>
            <p:nvPr/>
          </p:nvPicPr>
          <p:blipFill>
            <a:blip r:embed="rId17"/>
            <a:stretch/>
          </p:blipFill>
          <p:spPr>
            <a:xfrm>
              <a:off x="2286000" y="2133720"/>
              <a:ext cx="3873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18"/>
            <a:stretch/>
          </p:blipFill>
          <p:spPr>
            <a:xfrm>
              <a:off x="4038480" y="152388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9"/>
            <a:stretch/>
          </p:blipFill>
          <p:spPr>
            <a:xfrm>
              <a:off x="6172200" y="182880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0"/>
            <a:stretch/>
          </p:blipFill>
          <p:spPr>
            <a:xfrm>
              <a:off x="6172200" y="3733920"/>
              <a:ext cx="3873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1"/>
            <a:stretch/>
          </p:blipFill>
          <p:spPr>
            <a:xfrm>
              <a:off x="1981080" y="380988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2"/>
            <a:stretch/>
          </p:blipFill>
          <p:spPr>
            <a:xfrm>
              <a:off x="4038480" y="365760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828800" y="342900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33526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350532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22096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144792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19810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05120" y="4572000"/>
            <a:ext cx="4656240" cy="457200"/>
            <a:chOff x="1905120" y="4572000"/>
            <a:chExt cx="4656240" cy="457200"/>
          </a:xfrm>
        </p:grpSpPr>
        <p:sp>
          <p:nvSpPr>
            <p:cNvPr id="156" name=""/>
            <p:cNvSpPr/>
            <p:nvPr/>
          </p:nvSpPr>
          <p:spPr>
            <a:xfrm>
              <a:off x="1905120" y="4572000"/>
              <a:ext cx="45684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4440" y="4603680"/>
              <a:ext cx="415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emperature monitoring app. (stat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124080" y="1295280"/>
            <a:ext cx="2627280" cy="1981440"/>
            <a:chOff x="3124080" y="1295280"/>
            <a:chExt cx="2627280" cy="1981440"/>
          </a:xfrm>
        </p:grpSpPr>
        <p:sp>
          <p:nvSpPr>
            <p:cNvPr id="159" name=""/>
            <p:cNvSpPr/>
            <p:nvPr/>
          </p:nvSpPr>
          <p:spPr>
            <a:xfrm>
              <a:off x="5141880" y="1828800"/>
              <a:ext cx="609480" cy="1447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1295280"/>
              <a:ext cx="838440" cy="1447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916280" y="5105520"/>
            <a:ext cx="5837040" cy="457200"/>
            <a:chOff x="1916280" y="5105520"/>
            <a:chExt cx="5837040" cy="457200"/>
          </a:xfrm>
        </p:grpSpPr>
        <p:sp>
          <p:nvSpPr>
            <p:cNvPr id="162" name=""/>
            <p:cNvSpPr/>
            <p:nvPr/>
          </p:nvSpPr>
          <p:spPr>
            <a:xfrm>
              <a:off x="1916280" y="5105520"/>
              <a:ext cx="457200" cy="45720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77440" y="5137200"/>
              <a:ext cx="537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ucture health monitoring app. (slow dynam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781680" y="2819520"/>
            <a:ext cx="1123920" cy="790560"/>
            <a:chOff x="6781680" y="2819520"/>
            <a:chExt cx="1123920" cy="790560"/>
          </a:xfrm>
        </p:grpSpPr>
        <p:pic>
          <p:nvPicPr>
            <p:cNvPr id="165" name="" descr=""/>
            <p:cNvPicPr/>
            <p:nvPr/>
          </p:nvPicPr>
          <p:blipFill>
            <a:blip r:embed="rId23"/>
            <a:stretch/>
          </p:blipFill>
          <p:spPr>
            <a:xfrm>
              <a:off x="7315200" y="2895480"/>
              <a:ext cx="5904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781680" y="2819520"/>
              <a:ext cx="685800" cy="6858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905120" y="5638680"/>
            <a:ext cx="5425920" cy="457200"/>
            <a:chOff x="1905120" y="5638680"/>
            <a:chExt cx="5425920" cy="457200"/>
          </a:xfrm>
        </p:grpSpPr>
        <p:sp>
          <p:nvSpPr>
            <p:cNvPr id="168" name=""/>
            <p:cNvSpPr/>
            <p:nvPr/>
          </p:nvSpPr>
          <p:spPr>
            <a:xfrm>
              <a:off x="1905120" y="563868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90760" y="5670360"/>
              <a:ext cx="494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nel/asset tracking app. (fast dynam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14300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6668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3720" y="244620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0.0465 C -0.04843 0.08721 -0.09635 0.12793 -0.13994 0.13047 C -0.18316 0.13301 -0.22726 0.08906 -0.26146 0.06107 C -0.29549 0.03285 -0.31997 -0.01133 -0.3448 -0.03839 C -0.3698 -0.06546 -0.3908 -0.08396 -0.41146 -0.10201 E">
                                      <p:cBhvr>
                                        <p:cTn id="29" dur="5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urrent Status &amp; Future Direc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memory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gressive caching poli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efficient code forwar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warder sup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world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ng adopted by ETRI, South Kore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hanced group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ation through real-world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657600" y="2743200"/>
            <a:ext cx="300816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hanks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bile agents (push-based): Agilla, Sensor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nyCu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od, Abstract Reg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. dissemination and sear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ckle, PSFQ, Deluge, Imp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-ring model, Acquire, rumor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lle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00200" y="1219320"/>
            <a:ext cx="6400080" cy="1904040"/>
            <a:chOff x="1600200" y="1219320"/>
            <a:chExt cx="6400080" cy="1904040"/>
          </a:xfrm>
        </p:grpSpPr>
        <p:grpSp>
          <p:nvGrpSpPr>
            <p:cNvPr id="175" name=""/>
            <p:cNvGrpSpPr/>
            <p:nvPr/>
          </p:nvGrpSpPr>
          <p:grpSpPr>
            <a:xfrm>
              <a:off x="1600200" y="1219320"/>
              <a:ext cx="5723280" cy="1813680"/>
              <a:chOff x="1600200" y="1219320"/>
              <a:chExt cx="5723280" cy="1813680"/>
            </a:xfrm>
          </p:grpSpPr>
          <p:pic>
            <p:nvPicPr>
              <p:cNvPr id="1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29320" y="19242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03600" y="145080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1080" y="21826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2080" y="179496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01720" y="22690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5400" y="188136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8560" y="25704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957680" y="261324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30840" y="27424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20440" y="209664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21200" y="14076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64480" y="261324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35360" y="291492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37640" y="231192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679800" y="175212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100960" y="2037600"/>
                <a:ext cx="0" cy="55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315520" y="2037600"/>
                <a:ext cx="3574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887920" y="2381760"/>
                <a:ext cx="214560" cy="38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172240" y="2381760"/>
                <a:ext cx="50076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2816280" y="1994040"/>
                <a:ext cx="50076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3459960" y="1563840"/>
                <a:ext cx="214560" cy="30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31960" y="1994400"/>
                <a:ext cx="50076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47280" y="2295720"/>
                <a:ext cx="14292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5463360" y="1908360"/>
                <a:ext cx="7164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535360" y="1520280"/>
                <a:ext cx="357480" cy="30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07400" y="1520640"/>
                <a:ext cx="6436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23080" y="1865160"/>
                <a:ext cx="28584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179040" y="2424600"/>
                <a:ext cx="9298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5749920" y="2726640"/>
                <a:ext cx="28584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4318560" y="2209320"/>
                <a:ext cx="100188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62200" y="2209680"/>
                <a:ext cx="929880" cy="34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05120" y="2640240"/>
                <a:ext cx="92988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00200" y="1219320"/>
                <a:ext cx="855360" cy="50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2530080" y="1477440"/>
                <a:ext cx="10731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72240" y="1735920"/>
                <a:ext cx="7164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600200" y="1355040"/>
              <a:ext cx="5801040" cy="1768320"/>
              <a:chOff x="1600200" y="1355040"/>
              <a:chExt cx="5801040" cy="1768320"/>
            </a:xfrm>
          </p:grpSpPr>
          <p:sp>
            <p:nvSpPr>
              <p:cNvPr id="212" name=""/>
              <p:cNvSpPr/>
              <p:nvPr/>
            </p:nvSpPr>
            <p:spPr>
              <a:xfrm>
                <a:off x="1600200" y="223920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34120" y="223920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68040" y="2239200"/>
                <a:ext cx="193320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68040" y="1355040"/>
                <a:ext cx="193320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34120" y="135504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00200" y="135504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832040" y="1355040"/>
              <a:ext cx="5182200" cy="1753560"/>
              <a:chOff x="1832040" y="1355040"/>
              <a:chExt cx="5182200" cy="1753560"/>
            </a:xfrm>
          </p:grpSpPr>
          <p:pic>
            <p:nvPicPr>
              <p:cNvPr id="21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296080" y="1762920"/>
                <a:ext cx="393120" cy="3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074840" y="140004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240960" y="158148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40960" y="2715480"/>
                <a:ext cx="393120" cy="3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986480" y="276084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074840" y="267012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1832040" y="253404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230000" y="248868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54320" y="257940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09440" y="180828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33760" y="135504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50200" y="167220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147120" y="1264320"/>
              <a:ext cx="2666520" cy="1179360"/>
              <a:chOff x="3147120" y="1264320"/>
              <a:chExt cx="2666520" cy="1179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195160" y="1581840"/>
                <a:ext cx="618480" cy="861840"/>
              </a:xfrm>
              <a:prstGeom prst="ellipse">
                <a:avLst/>
              </a:prstGeom>
              <a:noFill/>
              <a:ln w="190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47120" y="1264320"/>
                <a:ext cx="851040" cy="861840"/>
              </a:xfrm>
              <a:prstGeom prst="ellipse">
                <a:avLst/>
              </a:prstGeom>
              <a:noFill/>
              <a:ln w="190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859800" y="2171520"/>
              <a:ext cx="1140480" cy="470160"/>
              <a:chOff x="6859800" y="2171520"/>
              <a:chExt cx="1140480" cy="470160"/>
            </a:xfrm>
          </p:grpSpPr>
          <p:pic>
            <p:nvPicPr>
              <p:cNvPr id="23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401240" y="2216520"/>
                <a:ext cx="5990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6859800" y="2171520"/>
                <a:ext cx="695880" cy="40824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3276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of programming for app. domain expe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tle knowledge of NesC and Tiny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of concurrent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iable code storage and exec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xible and dynamic application deploy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of software maintenance and upgra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stent and reliable code distrib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of the 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447920"/>
          <a:ext cx="8305920" cy="3244680"/>
        </p:xfrm>
        <a:graphic>
          <a:graphicData uri="http://schemas.openxmlformats.org/drawingml/2006/table">
            <a:tbl>
              <a:tblPr/>
              <a:tblGrid>
                <a:gridCol w="1397160"/>
                <a:gridCol w="1574640"/>
                <a:gridCol w="1905120"/>
                <a:gridCol w="1447560"/>
                <a:gridCol w="19814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e-of-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app. deplo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ve-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ftware upgrade per ap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ol. code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efficient for trac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metimes high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bile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metimes 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reliable over multi-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yCu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 node-level concurr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efficient with app. 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7200" y="4800600"/>
          <a:ext cx="8305920" cy="68544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1905120"/>
                <a:gridCol w="1447560"/>
                <a:gridCol w="19814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 + Trick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y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399480" y="48164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Group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13720" y="482112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Group-differentiated</a:t>
            </a:r>
            <a:r>
              <a:rPr b="0" lang="en-US" sz="17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-Based Application Deploy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72600" y="1447920"/>
            <a:ext cx="8389080" cy="39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Group: a subset of sensor nodes to host an application, a logical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95280" y="2057400"/>
            <a:ext cx="4224240" cy="2104560"/>
            <a:chOff x="1295280" y="2057400"/>
            <a:chExt cx="4224240" cy="210456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612080" y="287532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2773800" y="23259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3037680" y="317520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4093920" y="272556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5"/>
            <a:stretch/>
          </p:blipFill>
          <p:spPr>
            <a:xfrm>
              <a:off x="2034360" y="32752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6"/>
            <a:stretch/>
          </p:blipFill>
          <p:spPr>
            <a:xfrm>
              <a:off x="2509560" y="282564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7"/>
            <a:stretch/>
          </p:blipFill>
          <p:spPr>
            <a:xfrm>
              <a:off x="3301920" y="362484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8"/>
            <a:stretch/>
          </p:blipFill>
          <p:spPr>
            <a:xfrm>
              <a:off x="1559160" y="36748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9"/>
            <a:stretch/>
          </p:blipFill>
          <p:spPr>
            <a:xfrm>
              <a:off x="2351160" y="382500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0"/>
            <a:stretch/>
          </p:blipFill>
          <p:spPr>
            <a:xfrm>
              <a:off x="4041360" y="30754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11"/>
            <a:stretch/>
          </p:blipFill>
          <p:spPr>
            <a:xfrm>
              <a:off x="4410720" y="227592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4516560" y="36748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3"/>
            <a:stretch/>
          </p:blipFill>
          <p:spPr>
            <a:xfrm>
              <a:off x="4199760" y="4024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4"/>
            <a:stretch/>
          </p:blipFill>
          <p:spPr>
            <a:xfrm>
              <a:off x="5308560" y="33253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5"/>
            <a:stretch/>
          </p:blipFill>
          <p:spPr>
            <a:xfrm>
              <a:off x="5044680" y="26758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665000" y="3006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3400" y="3006720"/>
              <a:ext cx="2638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45680" y="3406320"/>
              <a:ext cx="15840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717560" y="3406320"/>
              <a:ext cx="36972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192760" y="2956680"/>
              <a:ext cx="3697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667960" y="2456640"/>
              <a:ext cx="15840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20880" y="2956680"/>
              <a:ext cx="369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49000" y="3306600"/>
              <a:ext cx="10548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146840" y="2856960"/>
              <a:ext cx="5256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199760" y="2406600"/>
              <a:ext cx="2638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22040" y="2406960"/>
              <a:ext cx="47520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50160" y="2806920"/>
              <a:ext cx="21096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674960" y="3456000"/>
              <a:ext cx="6861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358160" y="3806280"/>
              <a:ext cx="2109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301920" y="3206520"/>
              <a:ext cx="73944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407760" y="3206520"/>
              <a:ext cx="6861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13240" y="3706200"/>
              <a:ext cx="6865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16"/>
            <a:stretch/>
          </p:blipFill>
          <p:spPr>
            <a:xfrm>
              <a:off x="1295280" y="2057400"/>
              <a:ext cx="631440" cy="5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981800" y="2356920"/>
              <a:ext cx="79200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17560" y="2656800"/>
              <a:ext cx="525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295280" y="2214720"/>
            <a:ext cx="4281120" cy="2052000"/>
            <a:chOff x="1295280" y="2214720"/>
            <a:chExt cx="4281120" cy="2052000"/>
          </a:xfrm>
        </p:grpSpPr>
        <p:sp>
          <p:nvSpPr>
            <p:cNvPr id="282" name=""/>
            <p:cNvSpPr/>
            <p:nvPr/>
          </p:nvSpPr>
          <p:spPr>
            <a:xfrm>
              <a:off x="1295280" y="3240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22320" y="3240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49720" y="3240720"/>
              <a:ext cx="142668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49720" y="2214720"/>
              <a:ext cx="142668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2320" y="2214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95280" y="2214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467000" y="2214720"/>
            <a:ext cx="3823920" cy="2035080"/>
            <a:chOff x="1467000" y="2214720"/>
            <a:chExt cx="3823920" cy="2035080"/>
          </a:xfrm>
        </p:grpSpPr>
        <p:pic>
          <p:nvPicPr>
            <p:cNvPr id="289" name="" descr=""/>
            <p:cNvPicPr/>
            <p:nvPr/>
          </p:nvPicPr>
          <p:blipFill>
            <a:blip r:embed="rId17"/>
            <a:stretch/>
          </p:blipFill>
          <p:spPr>
            <a:xfrm>
              <a:off x="1809360" y="2688120"/>
              <a:ext cx="2898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8"/>
            <a:stretch/>
          </p:blipFill>
          <p:spPr>
            <a:xfrm>
              <a:off x="3121920" y="226692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9"/>
            <a:stretch/>
          </p:blipFill>
          <p:spPr>
            <a:xfrm>
              <a:off x="4720320" y="247752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0"/>
            <a:stretch/>
          </p:blipFill>
          <p:spPr>
            <a:xfrm>
              <a:off x="4720320" y="3793680"/>
              <a:ext cx="2898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21"/>
            <a:stretch/>
          </p:blipFill>
          <p:spPr>
            <a:xfrm>
              <a:off x="1580760" y="384624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2"/>
            <a:stretch/>
          </p:blipFill>
          <p:spPr>
            <a:xfrm>
              <a:off x="3121920" y="374076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467000" y="358308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36400" y="353016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34840" y="363564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23880" y="274068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22680" y="221472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48560" y="258300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436840" y="2109960"/>
            <a:ext cx="1968120" cy="1368000"/>
            <a:chOff x="2436840" y="2109960"/>
            <a:chExt cx="1968120" cy="1368000"/>
          </a:xfrm>
        </p:grpSpPr>
        <p:sp>
          <p:nvSpPr>
            <p:cNvPr id="302" name=""/>
            <p:cNvSpPr/>
            <p:nvPr/>
          </p:nvSpPr>
          <p:spPr>
            <a:xfrm>
              <a:off x="3948480" y="2478240"/>
              <a:ext cx="456480" cy="9997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36840" y="2109960"/>
              <a:ext cx="628200" cy="9997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178600" y="3162240"/>
            <a:ext cx="840960" cy="545760"/>
            <a:chOff x="5178600" y="3162240"/>
            <a:chExt cx="840960" cy="545760"/>
          </a:xfrm>
        </p:grpSpPr>
        <p:pic>
          <p:nvPicPr>
            <p:cNvPr id="305" name="" descr=""/>
            <p:cNvPicPr/>
            <p:nvPr/>
          </p:nvPicPr>
          <p:blipFill>
            <a:blip r:embed="rId23"/>
            <a:stretch/>
          </p:blipFill>
          <p:spPr>
            <a:xfrm>
              <a:off x="5577840" y="3214440"/>
              <a:ext cx="44172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178600" y="3162240"/>
              <a:ext cx="513360" cy="4737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691320" y="2286000"/>
            <a:ext cx="1480320" cy="457200"/>
            <a:chOff x="6691320" y="2286000"/>
            <a:chExt cx="1480320" cy="457200"/>
          </a:xfrm>
        </p:grpSpPr>
        <p:sp>
          <p:nvSpPr>
            <p:cNvPr id="308" name=""/>
            <p:cNvSpPr/>
            <p:nvPr/>
          </p:nvSpPr>
          <p:spPr>
            <a:xfrm>
              <a:off x="6691320" y="228600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19360" y="231768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691320" y="3009960"/>
            <a:ext cx="1479960" cy="457200"/>
            <a:chOff x="6691320" y="3009960"/>
            <a:chExt cx="1479960" cy="457200"/>
          </a:xfrm>
        </p:grpSpPr>
        <p:sp>
          <p:nvSpPr>
            <p:cNvPr id="311" name=""/>
            <p:cNvSpPr/>
            <p:nvPr/>
          </p:nvSpPr>
          <p:spPr>
            <a:xfrm>
              <a:off x="6691320" y="300996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19000" y="304164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691320" y="3733920"/>
            <a:ext cx="1479960" cy="457200"/>
            <a:chOff x="6691320" y="3733920"/>
            <a:chExt cx="1479960" cy="457200"/>
          </a:xfrm>
        </p:grpSpPr>
        <p:sp>
          <p:nvSpPr>
            <p:cNvPr id="314" name=""/>
            <p:cNvSpPr/>
            <p:nvPr/>
          </p:nvSpPr>
          <p:spPr>
            <a:xfrm>
              <a:off x="6691320" y="373392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19000" y="376560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457164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may overl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members may arbitrari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can be statically formed and dynamically adju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83137E-006 C -0.02622 0.00879 -0.05209 0.01781 -0.06962 0.03054 C -0.08681 0.04372 -0.07639 0.08004 -0.10365 0.07819 C -0.13056 0.07657 -0.20591 0.04048 -0.23177 0.02175 C -0.25782 0.00255 -0.24532 -0.01989 -0.25868 -0.03516 C -0.27223 -0.05066 -0.30348 -0.06454 -0.31233 -0.07009 E">
                                      <p:cBhvr>
                                        <p:cTn id="52" dur="5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2271600" y="1376280"/>
            <a:ext cx="4281120" cy="2052720"/>
            <a:chOff x="2271600" y="1376280"/>
            <a:chExt cx="4281120" cy="2052720"/>
          </a:xfrm>
        </p:grpSpPr>
        <p:sp>
          <p:nvSpPr>
            <p:cNvPr id="318" name=""/>
            <p:cNvSpPr/>
            <p:nvPr/>
          </p:nvSpPr>
          <p:spPr>
            <a:xfrm>
              <a:off x="2271600" y="240264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98640" y="240264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26040" y="2402640"/>
              <a:ext cx="142668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26040" y="1376280"/>
              <a:ext cx="142668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8640" y="137628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71600" y="137628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447840" cy="6094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ping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133720" y="1219320"/>
            <a:ext cx="4224240" cy="2104560"/>
            <a:chOff x="2133720" y="1219320"/>
            <a:chExt cx="4224240" cy="210456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2450520" y="20372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3612240" y="14878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3876120" y="23371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5"/>
            <a:stretch/>
          </p:blipFill>
          <p:spPr>
            <a:xfrm>
              <a:off x="4932000" y="18874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6"/>
            <a:stretch/>
          </p:blipFill>
          <p:spPr>
            <a:xfrm>
              <a:off x="2872800" y="24372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7"/>
            <a:stretch/>
          </p:blipFill>
          <p:spPr>
            <a:xfrm>
              <a:off x="3348000" y="19875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8"/>
            <a:stretch/>
          </p:blipFill>
          <p:spPr>
            <a:xfrm>
              <a:off x="4140000" y="27867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>
              <a:off x="2397600" y="2836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0"/>
            <a:stretch/>
          </p:blipFill>
          <p:spPr>
            <a:xfrm>
              <a:off x="3189600" y="29869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"/>
            <a:stretch/>
          </p:blipFill>
          <p:spPr>
            <a:xfrm>
              <a:off x="4879440" y="22374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2"/>
            <a:stretch/>
          </p:blipFill>
          <p:spPr>
            <a:xfrm>
              <a:off x="5248800" y="14378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3"/>
            <a:stretch/>
          </p:blipFill>
          <p:spPr>
            <a:xfrm>
              <a:off x="5354640" y="2836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4"/>
            <a:stretch/>
          </p:blipFill>
          <p:spPr>
            <a:xfrm>
              <a:off x="5037840" y="31867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5"/>
            <a:stretch/>
          </p:blipFill>
          <p:spPr>
            <a:xfrm>
              <a:off x="6147000" y="24872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6"/>
            <a:stretch/>
          </p:blipFill>
          <p:spPr>
            <a:xfrm>
              <a:off x="5882760" y="1837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2503440" y="216864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1840" y="2168640"/>
              <a:ext cx="2638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84120" y="2568240"/>
              <a:ext cx="15840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556000" y="2568240"/>
              <a:ext cx="36972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3031200" y="2118600"/>
              <a:ext cx="3697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506400" y="1618560"/>
              <a:ext cx="15840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59320" y="2118600"/>
              <a:ext cx="369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87440" y="2468520"/>
              <a:ext cx="10548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984920" y="2018880"/>
              <a:ext cx="5256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037840" y="1568520"/>
              <a:ext cx="2638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60120" y="1568880"/>
              <a:ext cx="47520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88240" y="1968840"/>
              <a:ext cx="21096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513040" y="2617920"/>
              <a:ext cx="6861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196240" y="2968200"/>
              <a:ext cx="2109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140000" y="2368440"/>
              <a:ext cx="73944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245840" y="2368440"/>
              <a:ext cx="6861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51320" y="2868120"/>
              <a:ext cx="6865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7"/>
            <a:stretch/>
          </p:blipFill>
          <p:spPr>
            <a:xfrm>
              <a:off x="2133720" y="1219320"/>
              <a:ext cx="631080" cy="5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820240" y="1518840"/>
              <a:ext cx="79200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56000" y="1818720"/>
              <a:ext cx="525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305080" y="1376280"/>
            <a:ext cx="3824280" cy="2035080"/>
            <a:chOff x="2305080" y="1376280"/>
            <a:chExt cx="3824280" cy="2035080"/>
          </a:xfrm>
        </p:grpSpPr>
        <p:pic>
          <p:nvPicPr>
            <p:cNvPr id="363" name="" descr=""/>
            <p:cNvPicPr/>
            <p:nvPr/>
          </p:nvPicPr>
          <p:blipFill>
            <a:blip r:embed="rId18"/>
            <a:stretch/>
          </p:blipFill>
          <p:spPr>
            <a:xfrm>
              <a:off x="2647800" y="1849320"/>
              <a:ext cx="29052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19"/>
            <a:stretch/>
          </p:blipFill>
          <p:spPr>
            <a:xfrm>
              <a:off x="3960720" y="142884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20"/>
            <a:stretch/>
          </p:blipFill>
          <p:spPr>
            <a:xfrm>
              <a:off x="5557680" y="163980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21"/>
            <a:stretch/>
          </p:blipFill>
          <p:spPr>
            <a:xfrm>
              <a:off x="5557680" y="295596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22"/>
            <a:stretch/>
          </p:blipFill>
          <p:spPr>
            <a:xfrm>
              <a:off x="2419200" y="300816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3"/>
            <a:stretch/>
          </p:blipFill>
          <p:spPr>
            <a:xfrm>
              <a:off x="3960720" y="290340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305080" y="2744640"/>
              <a:ext cx="34272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5200" y="269244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73640" y="279720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2320" y="1903320"/>
              <a:ext cx="342720" cy="3142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60760" y="1376280"/>
              <a:ext cx="3430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86280" y="1744560"/>
              <a:ext cx="3430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467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ly, all nodes belong to group 0 on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 group 0 code for grouping oper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join a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1: Group 0 randomly choose 1 node from every room to join group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2: Group 0 continuously senses temp; join group 2 if temp &gt; 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3: Group 2 continuously senses temp; leave group 2 if temp &lt; 8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joining a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wnload app. code on-dem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 the code when trigge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954600" y="2666880"/>
            <a:ext cx="1890720" cy="941400"/>
            <a:chOff x="3954600" y="2666880"/>
            <a:chExt cx="1890720" cy="941400"/>
          </a:xfrm>
        </p:grpSpPr>
        <p:pic>
          <p:nvPicPr>
            <p:cNvPr id="377" name="" descr=""/>
            <p:cNvPicPr/>
            <p:nvPr/>
          </p:nvPicPr>
          <p:blipFill>
            <a:blip r:embed="rId24"/>
            <a:stretch/>
          </p:blipFill>
          <p:spPr>
            <a:xfrm>
              <a:off x="5173560" y="320508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5"/>
            <a:stretch/>
          </p:blipFill>
          <p:spPr>
            <a:xfrm>
              <a:off x="5554800" y="2954160"/>
              <a:ext cx="29052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26"/>
            <a:stretch/>
          </p:blipFill>
          <p:spPr>
            <a:xfrm>
              <a:off x="3954600" y="2878200"/>
              <a:ext cx="28872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068720" y="2666880"/>
              <a:ext cx="3412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70400" y="279576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44960" y="3129120"/>
              <a:ext cx="3430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king a shadow using group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2073240"/>
            <a:ext cx="20574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0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r 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l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 &lt;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in_group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52880" y="2073240"/>
            <a:ext cx="297180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1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r 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l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 &lt; 1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s []=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sizeof(readings) =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ave_group(group(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05000" y="3189240"/>
            <a:ext cx="6921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We can do 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data aggregation at cluster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forming group 2 around group 1 to get the contour of the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ib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523880" y="1612800"/>
            <a:ext cx="1295640" cy="88740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1523880" y="3139920"/>
            <a:ext cx="1371240" cy="653760"/>
            <a:chOff x="1523880" y="3139920"/>
            <a:chExt cx="1371240" cy="653760"/>
          </a:xfrm>
        </p:grpSpPr>
        <p:grpSp>
          <p:nvGrpSpPr>
            <p:cNvPr id="391" name=""/>
            <p:cNvGrpSpPr/>
            <p:nvPr/>
          </p:nvGrpSpPr>
          <p:grpSpPr>
            <a:xfrm>
              <a:off x="1599840" y="3139920"/>
              <a:ext cx="1295280" cy="609480"/>
              <a:chOff x="1599840" y="3139920"/>
              <a:chExt cx="1295280" cy="609480"/>
            </a:xfrm>
          </p:grpSpPr>
          <p:pic>
            <p:nvPicPr>
              <p:cNvPr id="3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6680" y="337680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3440" y="321768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134080" y="346356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58080" y="33332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26280" y="349272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72080" y="336240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215080" y="359388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680480" y="360828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23480" y="36518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41880" y="343476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5280" y="320292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87680" y="360828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490480" y="370980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30680" y="350712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9680" y="33188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1713240" y="3414600"/>
                <a:ext cx="0" cy="18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61840" y="3414600"/>
                <a:ext cx="806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891080" y="3530520"/>
                <a:ext cx="4824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1729080" y="3530160"/>
                <a:ext cx="11340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1874880" y="3399840"/>
                <a:ext cx="11340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020680" y="3255120"/>
                <a:ext cx="4824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036880" y="3400200"/>
                <a:ext cx="113400" cy="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199240" y="3501720"/>
                <a:ext cx="3204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2473920" y="3371400"/>
                <a:ext cx="16200" cy="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490480" y="3240720"/>
                <a:ext cx="8064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20080" y="3241080"/>
                <a:ext cx="1454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82080" y="3357000"/>
                <a:ext cx="644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2636280" y="3544920"/>
                <a:ext cx="2102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2538720" y="3646440"/>
                <a:ext cx="644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2215080" y="3472560"/>
                <a:ext cx="2268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247840" y="3472200"/>
                <a:ext cx="210240" cy="11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79880" y="3617280"/>
                <a:ext cx="21060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599840" y="3139920"/>
                <a:ext cx="193680" cy="1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1810440" y="3226680"/>
                <a:ext cx="24264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729080" y="3313440"/>
                <a:ext cx="1620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1523880" y="3444480"/>
              <a:ext cx="609480" cy="304920"/>
            </a:xfrm>
            <a:prstGeom prst="ellipse">
              <a:avLst/>
            </a:prstGeom>
            <a:noFill/>
            <a:ln w="1260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28440" y="3215880"/>
              <a:ext cx="685800" cy="3812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61960" y="3139920"/>
              <a:ext cx="304920" cy="228600"/>
            </a:xfrm>
            <a:prstGeom prst="ellipse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46200" y="3565080"/>
              <a:ext cx="228600" cy="228600"/>
            </a:xfrm>
            <a:prstGeom prst="ellipse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-level virtual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host and execute concurrent app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nyScript extension for grouping ope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274320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289548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-level dynamic grou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xible, on-the-fly app.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ive and reactive cod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8120" y="4419720"/>
            <a:ext cx="5333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up-differentiated code 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ve ads. + passive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zy 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essive flo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ized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990720" y="4784760"/>
            <a:ext cx="1904400" cy="1020600"/>
            <a:chOff x="990720" y="4784760"/>
            <a:chExt cx="1904400" cy="1020600"/>
          </a:xfrm>
        </p:grpSpPr>
        <p:grpSp>
          <p:nvGrpSpPr>
            <p:cNvPr id="436" name=""/>
            <p:cNvGrpSpPr/>
            <p:nvPr/>
          </p:nvGrpSpPr>
          <p:grpSpPr>
            <a:xfrm>
              <a:off x="990720" y="5043600"/>
              <a:ext cx="1904400" cy="761760"/>
              <a:chOff x="990720" y="5043600"/>
              <a:chExt cx="1904400" cy="7617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990720" y="5043600"/>
                <a:ext cx="1904400" cy="761760"/>
                <a:chOff x="990720" y="5043600"/>
                <a:chExt cx="1904400" cy="761760"/>
              </a:xfrm>
            </p:grpSpPr>
            <p:pic>
              <p:nvPicPr>
                <p:cNvPr id="43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042920" y="5315400"/>
                  <a:ext cx="261360" cy="1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559600" y="553320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566000" y="5315400"/>
                  <a:ext cx="261360" cy="1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932120" y="553320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245680" y="526104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3" name=""/>
                <p:cNvSpPr/>
                <p:nvPr/>
              </p:nvSpPr>
              <p:spPr>
                <a:xfrm>
                  <a:off x="1288080" y="5424480"/>
                  <a:ext cx="26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1827360" y="5369760"/>
                  <a:ext cx="418320" cy="5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2104920" y="5401440"/>
                  <a:ext cx="156600" cy="16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07400" y="5424480"/>
                  <a:ext cx="156600" cy="10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827360" y="5478840"/>
                  <a:ext cx="156600" cy="5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990720" y="5261040"/>
                  <a:ext cx="366120" cy="326520"/>
                </a:xfrm>
                <a:prstGeom prst="ellipse">
                  <a:avLst/>
                </a:prstGeom>
                <a:noFill/>
                <a:ln w="1908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215440" y="5043600"/>
                  <a:ext cx="679680" cy="761760"/>
                </a:xfrm>
                <a:prstGeom prst="ellipse">
                  <a:avLst/>
                </a:prstGeom>
                <a:noFill/>
                <a:ln w="19080">
                  <a:solidFill>
                    <a:srgbClr val="33cc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1347840" y="5320080"/>
                <a:ext cx="1785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883520" y="5320080"/>
                <a:ext cx="297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38360" y="5320080"/>
                <a:ext cx="178560" cy="1386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1260360" y="4784760"/>
              <a:ext cx="283680" cy="457200"/>
              <a:chOff x="1260360" y="4784760"/>
              <a:chExt cx="283680" cy="457200"/>
            </a:xfrm>
          </p:grpSpPr>
          <p:sp>
            <p:nvSpPr>
              <p:cNvPr id="454" name=""/>
              <p:cNvSpPr/>
              <p:nvPr/>
            </p:nvSpPr>
            <p:spPr>
              <a:xfrm rot="16200000">
                <a:off x="1173600" y="4871520"/>
                <a:ext cx="457200" cy="283680"/>
              </a:xfrm>
              <a:prstGeom prst="horizontalScroll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323720" y="4930920"/>
                <a:ext cx="183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Assum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 stores code for all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-directional 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do NOT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 node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zation &amp;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0:08:17Z</dcterms:created>
  <dc:creator>a65018</dc:creator>
  <dc:description/>
  <dc:language>en-US</dc:language>
  <cp:lastModifiedBy>a65018</cp:lastModifiedBy>
  <dcterms:modified xsi:type="dcterms:W3CDTF">2006-11-03T16:41:58Z</dcterms:modified>
  <cp:revision>29</cp:revision>
  <dc:subject/>
  <dc:title>Slide 1</dc:title>
</cp:coreProperties>
</file>